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381C-16A1-43EC-8B04-F92D7AF46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7991-EF8E-45BD-88E4-330F664ECB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519E-704C-4208-A88D-AB3ECEABB9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5210-96B5-4EB8-9257-2CDD30B0FA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80CF-44C2-473F-B1A0-1DBC459C7F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0405-C1D9-4F1C-A41D-5C0D969BDA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C10-B9CD-42AA-8E34-83C63751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74E-1B9F-449F-93A9-269B6467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9A9-9455-428F-A9BD-9274E74D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E6D-A708-492D-BF35-9E8FD6E7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D12E-0089-4EF9-A088-1B86320A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2727-1CD1-4894-9CD2-DE60CD2C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C406-E7D0-44E5-83B5-11A7757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79A4-5D2E-4DF6-8A26-E8170E77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1B33-8807-4945-A8BF-2795868C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7126-17DF-47CE-8C78-24DA005D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0739-F896-4DC0-B257-B5247ECB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52D-C44D-45A4-9C95-E29B9F23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5A55-8E6E-4E98-86AD-B95163D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A40A-78E9-45C1-8DE6-6AC5A890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8452-CBFB-49EA-822A-A59BC079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374E-15EA-48DC-A607-2E64ECAA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DA9B-1CDD-4955-A8AA-F54B505F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17D-7D3E-4333-968C-91B067EC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2A14-6259-4322-A7C7-E53DACD6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06B-825C-44D2-AAA1-B1A22E98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A9A8-6A97-468D-92DA-E345707B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0DA3-59B1-4737-8FA5-B5F592A1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E39-6453-4C40-BDE5-2DFBA973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826-759E-47C0-9DCD-FAB6A5E6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64CD-48DB-49D8-83D3-808AB5B3C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AE1C-6131-4E63-A995-5CE45A0BAF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Cabine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the militar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3276720" y="3465360"/>
            <a:ext cx="2206440" cy="27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the econom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3200400" y="3429000"/>
            <a:ext cx="2517840" cy="29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foreign polic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2417760" cy="31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position is the head of law enforcement in the USA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441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was Washington’s Secretary of Stat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3200400" y="3436920"/>
            <a:ext cx="2060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09-30T12:25:30Z</dcterms:modified>
  <cp:revision>129</cp:revision>
  <dc:subject/>
  <dc:title>D/O: TO EXPLAIN AND IDENTIFY PROBLEMS OF ECONOMICS</dc:title>
</cp:coreProperties>
</file>